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8.wmf" ContentType="image/x-wmf"/>
  <Override PartName="/ppt/media/image9.png" ContentType="image/png"/>
  <Override PartName="/ppt/media/----027.WAV" ContentType="audio/x-wav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CEC-B3AF-4F15-8B91-E6E4A20E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F71-233E-4BF9-9086-9CA8CC85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48D-93D0-4FE8-8522-4AD88A5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5FC-E7A0-4641-9E5F-BD5D89C9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15BC-1D27-4D5D-BCDC-6D96392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49CB-6D28-4B16-A0F5-8E0A73F1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F0B-8071-4480-94A0-0591AA04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0257-466C-4739-AF54-97F6E6E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6124-3E7A-4F43-B576-6616727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63C-C87D-4C07-9268-44ABEE07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9667-5CAA-48BE-A142-7EEE5FE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167-8563-42A7-ADF0-3E4C996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8FF9-4C6C-4930-9372-58D9A45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7FF5-61FE-4A84-9BFB-E622BB6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B9D4-5A6D-4CB7-8FC3-4A10F74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B3DE-B667-4636-8944-75CD034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23E-BCC6-4D5E-9D21-8E08E0D9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17DF-BC5A-4DBE-90A0-3555DB7F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76A6-78A6-4EC8-B0AC-1B6BE61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A033-2E20-4386-898D-87E3188D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C316-B83E-4822-98AC-6544119F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2A81-15FE-49F7-B708-DB03487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F2A-78BD-42ED-9CB9-BF0136E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B7AA-3573-49CD-8BE9-9F152EF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F1AD-1A24-4CCA-886D-DC92AEA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2F19-CA86-4BC7-B5F9-F624D67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9A08-BFFC-46E2-99EB-F5E4E72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69CB-AE6E-47F6-88B6-ACB303E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6F6E-404A-4B05-A841-2C2B746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4BA3-6308-4437-937C-651796EC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8D9-B4C8-409B-A7C7-BD4C6F5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F7D-C357-4606-8C72-A547108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37E-3650-42FB-9E83-1628EB0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0A4-5D95-428B-BDE0-0647D7B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0A9-FAFF-4E3B-ACC1-96FCD03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351-11A8-46D1-B8A2-FB3D6E1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33A8-35A2-46CF-BFB1-1647D218D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F31E-2FC3-4412-8B9A-FA779B56A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D120-E2F5-4FAB-BD64-578B4FF68E5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----027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----027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audio" Target="../media/----027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OR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1916280"/>
            <a:ext cx="61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2.2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整式的加减（第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课时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12x-2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x+7x-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)-5a+0.3a-2.7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)-6ab+ba+8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)10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.5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)3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4a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+5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+2a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7)4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3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2ab-4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4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951840" y="5805360"/>
            <a:ext cx="49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8)7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xy+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3xy-2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395280" y="33336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一算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1)12x-20x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2)x+7x-5x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3)-5a+0.3a-2.7a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)-6ab+ba+8a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19640" y="1844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12-20)x=-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419640" y="24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1+7-5)x=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284720" y="306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-5+0.3-2.7)x=-7.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211640" y="3716280"/>
            <a:ext cx="338472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-6+1+8)ab=3ab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求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求多项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5x+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x-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值，其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WordArt 3" descr=""/>
          <p:cNvPicPr/>
          <p:nvPr/>
        </p:nvPicPr>
        <p:blipFill>
          <a:blip r:embed="rId1"/>
          <a:stretch/>
        </p:blipFill>
        <p:spPr>
          <a:xfrm>
            <a:off x="596880" y="249120"/>
            <a:ext cx="1854360" cy="1128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476360" y="357336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5x+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x-3x2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(2+1-3)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(-5+4)x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-x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=2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，原式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-2-2=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60360" y="6018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注：先合并同类项再求值，这样可以简化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  <a:ea typeface="华文新魏"/>
              </a:rPr>
              <a:t>练一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3809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468360" y="3068640"/>
                <a:ext cx="8028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先化简，再求值：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597120" y="907920"/>
            <a:ext cx="16894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复习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乘法分配律（用字母表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910160" y="3645000"/>
            <a:ext cx="420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(b+c)=ab+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399760" y="5157720"/>
            <a:ext cx="316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思考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反过来相等吗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?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853560" y="41904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算一算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23640" y="1773360"/>
            <a:ext cx="33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imes New Roman"/>
              </a:rPr>
              <a:t>100×2+252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356000" y="2565360"/>
            <a:ext cx="3529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6360" y="5013360"/>
            <a:ext cx="28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imes New Roman"/>
              </a:rPr>
              <a:t>100T+252T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780000" y="5805360"/>
            <a:ext cx="3024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23280" y="3500280"/>
            <a:ext cx="43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imes New Roman"/>
              </a:rPr>
              <a:t>100×(-2)+252×(-2)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5292720" y="4221000"/>
            <a:ext cx="3384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501800" y="177336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(100+252) 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149440" y="342900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(100+252) ×(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926160" y="50846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(100+252)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34360" y="15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先看看下面的题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59120" y="1044720"/>
            <a:ext cx="6639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每本练习本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x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元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,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小明买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5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本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,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小刚买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本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,</a:t>
            </a: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两人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99ff"/>
                </a:solidFill>
                <a:latin typeface="Times New Roman"/>
              </a:rPr>
              <a:t>共花了多少钱？小明比小刚多花了多少钱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46720" y="2322360"/>
            <a:ext cx="34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用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032800" y="2322360"/>
            <a:ext cx="34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刚用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473920" y="3236760"/>
            <a:ext cx="45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与小刚一共用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972880" y="2211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7183080" y="2211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096600" y="310680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x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1176840" y="40402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比小刚多花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6072840" y="396396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x -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56120" y="4859280"/>
            <a:ext cx="39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5x+2x=(5+2)x=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034960" y="4859280"/>
            <a:ext cx="37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5x-2x=(5-2)x=3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0" y="54943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可以知道小明与小刚买练习本一共用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明比小刚多花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7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75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75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276560" y="685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利用分配律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61040" y="2157480"/>
            <a:ext cx="256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ab+4ab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78680" y="32241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344240" y="3352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676880" y="322416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410920" y="3352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683800" y="32767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123360" y="213372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Times New Roman"/>
              </a:rPr>
              <a:t>(3+4)ab=7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184560" y="3200400"/>
            <a:ext cx="20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Times New Roman"/>
              </a:rPr>
              <a:t>(5-9)y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573080" y="3328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077440" y="314172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Times New Roman"/>
              </a:rPr>
              <a:t>-4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5868360" y="3357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4" dur="75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75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4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9" dur="7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75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012320" y="852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  <a:ea typeface="黑体"/>
              </a:rPr>
              <a:t>同类项的定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982160" y="2209680"/>
            <a:ext cx="552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所含的字母相同，并且相同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字母的次数也相同的项叫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类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。几个常数也是同类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2362320" y="4648320"/>
            <a:ext cx="60958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583200" y="468360"/>
            <a:ext cx="750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例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在多项式</a:t>
            </a: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4x+2y-3xy+7+3y-8x-2</a:t>
            </a: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中有那些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同类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36040" y="2670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答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8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同类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080600" y="2666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同类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6854760" y="2681280"/>
            <a:ext cx="22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同类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750320" y="34131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4x+2y-3xy+7+3y-8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12840" y="4095720"/>
            <a:ext cx="71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(4x-8x)+(2y+3y)+(7-2)-3x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506600" y="4781520"/>
            <a:ext cx="4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(4-8)x+(2+3)y+5-3x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523520" y="5470560"/>
            <a:ext cx="34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-4x+5y+5-3x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8" dur="75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3" dur="7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8" dur="7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75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7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3" dur="75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75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9640" y="69228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黑体"/>
              </a:rPr>
              <a:t>所以我们把多项式的同类项合并成一项，叫做合并同类项</a:t>
            </a:r>
            <a:r>
              <a:rPr b="1" lang="en-US" sz="4000" spc="-1" strike="noStrike">
                <a:solidFill>
                  <a:srgbClr val="3399ff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468360" y="3716280"/>
            <a:ext cx="7494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合并同类项的法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  <a:ea typeface="黑体"/>
              </a:rPr>
              <a:t>同类项的系数相加，所得的结果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  <a:ea typeface="黑体"/>
              </a:rPr>
              <a:t>为系数，字母和字母的指数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2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085760" y="2421000"/>
            <a:ext cx="347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:3ab+4ab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149360" y="2349360"/>
            <a:ext cx="354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(3+4)ab=7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5" dur="75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0" dur="75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0" dur="75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5" dur="7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4000" y="0"/>
            <a:ext cx="6192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练习一（课前测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运用有理数的运算律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×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2×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×(-2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2×(-2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68360" y="386064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可以进行加减计算，那么整式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可以加减运算呢？怎样化简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打字1"/>
          <p:cNvPicPr/>
          <p:nvPr/>
        </p:nvPicPr>
        <p:blipFill>
          <a:blip r:embed="rId1"/>
          <a:stretch/>
        </p:blipFill>
        <p:spPr>
          <a:xfrm>
            <a:off x="6300720" y="4653000"/>
            <a:ext cx="2303640" cy="1876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226400" y="198900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00+252)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600240" y="1989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7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094000" y="2708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0+252)×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962600" y="335772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-7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189800" y="4460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3399ff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合并下列同类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797400" y="1542960"/>
            <a:ext cx="6490080" cy="581400"/>
            <a:chOff x="797400" y="1542960"/>
            <a:chExt cx="6490080" cy="581400"/>
          </a:xfrm>
        </p:grpSpPr>
        <p:sp>
          <p:nvSpPr>
            <p:cNvPr id="309" name="Text Box 4"/>
            <p:cNvSpPr/>
            <p:nvPr/>
          </p:nvSpPr>
          <p:spPr>
            <a:xfrm>
              <a:off x="797400" y="1542960"/>
              <a:ext cx="649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x   + x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y - 5x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2230200" y="160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6"/>
            <p:cNvSpPr/>
            <p:nvPr/>
          </p:nvSpPr>
          <p:spPr>
            <a:xfrm>
              <a:off x="3068280" y="160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7"/>
          <p:cNvSpPr/>
          <p:nvPr/>
        </p:nvSpPr>
        <p:spPr>
          <a:xfrm>
            <a:off x="3382560" y="3322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573440" y="2666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543240" y="2637000"/>
            <a:ext cx="39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+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627640" y="328464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413720" y="436248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1-5)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725560" y="502920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-4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260360" y="206280"/>
            <a:ext cx="71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400d3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9400d3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合并多项式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8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6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同类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"/>
          <p:cNvSpPr/>
          <p:nvPr/>
        </p:nvSpPr>
        <p:spPr>
          <a:xfrm>
            <a:off x="3124080" y="762120"/>
            <a:ext cx="53352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5257800" y="762120"/>
            <a:ext cx="53352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"/>
          <p:cNvSpPr/>
          <p:nvPr/>
        </p:nvSpPr>
        <p:spPr>
          <a:xfrm>
            <a:off x="3962520" y="76212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5880" y="76212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4572000" y="762120"/>
            <a:ext cx="4572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858000" y="762120"/>
            <a:ext cx="4572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88280" y="1655640"/>
            <a:ext cx="863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解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: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原式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=(4x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2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3x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2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)+(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8x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6x)+(5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684800" y="2322360"/>
            <a:ext cx="6329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=(4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3) x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2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(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8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6)x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3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630080" y="2932200"/>
            <a:ext cx="411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= x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2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(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2)x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3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1568520" y="3571920"/>
            <a:ext cx="3267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= x</a:t>
            </a:r>
            <a:r>
              <a:rPr b="1" lang="en-US" sz="3800" spc="-1" strike="noStrike" baseline="30000">
                <a:solidFill>
                  <a:srgbClr val="3399ff"/>
                </a:solidFill>
                <a:latin typeface="黑体"/>
                <a:ea typeface="黑体"/>
              </a:rPr>
              <a:t>2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－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2x </a:t>
            </a:r>
            <a:r>
              <a:rPr b="1" lang="zh-CN" sz="3800" spc="-1" strike="noStrike">
                <a:solidFill>
                  <a:srgbClr val="3399ff"/>
                </a:solidFill>
                <a:latin typeface="黑体"/>
                <a:ea typeface="黑体"/>
              </a:rPr>
              <a:t>＋</a:t>
            </a:r>
            <a:r>
              <a:rPr b="1" lang="en-US" sz="3800" spc="-1" strike="noStrike">
                <a:solidFill>
                  <a:srgbClr val="3399ff"/>
                </a:solidFill>
                <a:latin typeface="黑体"/>
                <a:ea typeface="黑体"/>
              </a:rPr>
              <a:t>3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8" dur="75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3" dur="75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8" dur="75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3" dur="75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274760" y="27288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400d3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9400d3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合并多项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同类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3200400" y="838080"/>
            <a:ext cx="53352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5867280" y="838080"/>
            <a:ext cx="53352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038480" y="8380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6705720" y="8380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64200" y="1549440"/>
            <a:ext cx="77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4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223360" y="263520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252520" y="3657600"/>
            <a:ext cx="12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2" dur="75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7" dur="75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2" dur="75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369440" y="620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练一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7240" y="1773360"/>
            <a:ext cx="47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-3m-2m+5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)2x-3y-4+7y-3x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53240" y="4076640"/>
            <a:ext cx="8688600" cy="703440"/>
            <a:chOff x="453240" y="4076640"/>
            <a:chExt cx="8688600" cy="703440"/>
          </a:xfrm>
        </p:grpSpPr>
        <p:sp>
          <p:nvSpPr>
            <p:cNvPr id="340" name="Text Box 5"/>
            <p:cNvSpPr/>
            <p:nvPr/>
          </p:nvSpPr>
          <p:spPr>
            <a:xfrm>
              <a:off x="453240" y="4076640"/>
              <a:ext cx="85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(3)3(a+b)-(a+b)+2(a+b)+4(a+b)-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257040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566604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83476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808200" y="15552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9840" y="119700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类项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：在一个多项式中，所含字母相同，并且相同字母的指数也相同的项叫做同类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23984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合并同类项的法则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：同类项的系数相加，所得的结果作为系数，字母和字母的指数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合并同类项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：把多项式的同类项合并成一项，叫做合并同类项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89000"/>
            <a:ext cx="2362320" cy="1447560"/>
            <a:chOff x="0" y="189000"/>
            <a:chExt cx="2362320" cy="1447560"/>
          </a:xfrm>
        </p:grpSpPr>
        <p:sp>
          <p:nvSpPr>
            <p:cNvPr id="350" name="Freeform 3"/>
            <p:cNvSpPr/>
            <p:nvPr/>
          </p:nvSpPr>
          <p:spPr>
            <a:xfrm>
              <a:off x="87480" y="320760"/>
              <a:ext cx="699840" cy="6570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99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4"/>
            <p:cNvGrpSpPr/>
            <p:nvPr/>
          </p:nvGrpSpPr>
          <p:grpSpPr>
            <a:xfrm>
              <a:off x="0" y="189000"/>
              <a:ext cx="2362320" cy="1447560"/>
              <a:chOff x="0" y="189000"/>
              <a:chExt cx="2362320" cy="1447560"/>
            </a:xfrm>
          </p:grpSpPr>
          <p:sp>
            <p:nvSpPr>
              <p:cNvPr id="352" name="Rectangle 5"/>
              <p:cNvSpPr/>
              <p:nvPr/>
            </p:nvSpPr>
            <p:spPr>
              <a:xfrm>
                <a:off x="0" y="977760"/>
                <a:ext cx="2362320" cy="65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6"/>
              <p:cNvSpPr/>
              <p:nvPr/>
            </p:nvSpPr>
            <p:spPr>
              <a:xfrm>
                <a:off x="961920" y="189000"/>
                <a:ext cx="14004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"/>
              <p:cNvSpPr/>
              <p:nvPr/>
            </p:nvSpPr>
            <p:spPr>
              <a:xfrm>
                <a:off x="87480" y="847800"/>
                <a:ext cx="699840" cy="52524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000000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8"/>
              <p:cNvSpPr/>
              <p:nvPr/>
            </p:nvSpPr>
            <p:spPr>
              <a:xfrm>
                <a:off x="349200" y="1271520"/>
                <a:ext cx="176400" cy="2635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"/>
              <p:cNvSpPr/>
              <p:nvPr/>
            </p:nvSpPr>
            <p:spPr>
              <a:xfrm>
                <a:off x="87480" y="189000"/>
                <a:ext cx="698400" cy="2635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0"/>
              <p:cNvSpPr/>
              <p:nvPr/>
            </p:nvSpPr>
            <p:spPr>
              <a:xfrm>
                <a:off x="349200" y="189000"/>
                <a:ext cx="176400" cy="1317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8" name="Picture 11" descr="pic028"/>
          <p:cNvPicPr/>
          <p:nvPr/>
        </p:nvPicPr>
        <p:blipFill>
          <a:blip r:embed="rId1"/>
          <a:stretch/>
        </p:blipFill>
        <p:spPr>
          <a:xfrm>
            <a:off x="6649920" y="5877000"/>
            <a:ext cx="2494080" cy="981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4"/>
          <p:cNvSpPr/>
          <p:nvPr/>
        </p:nvSpPr>
        <p:spPr>
          <a:xfrm>
            <a:off x="826920" y="33336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中考训练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900000" y="1700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6 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同类项   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=_______.    n=______ (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900000" y="2997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5a-2a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(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分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971640" y="407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ⅹ-5ⅹ=(      )         (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189000"/>
            <a:ext cx="2362320" cy="1447560"/>
            <a:chOff x="0" y="189000"/>
            <a:chExt cx="2362320" cy="1447560"/>
          </a:xfrm>
        </p:grpSpPr>
        <p:sp>
          <p:nvSpPr>
            <p:cNvPr id="364" name="Freeform 3"/>
            <p:cNvSpPr/>
            <p:nvPr/>
          </p:nvSpPr>
          <p:spPr>
            <a:xfrm>
              <a:off x="87480" y="320760"/>
              <a:ext cx="699840" cy="6570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99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4"/>
            <p:cNvGrpSpPr/>
            <p:nvPr/>
          </p:nvGrpSpPr>
          <p:grpSpPr>
            <a:xfrm>
              <a:off x="0" y="189000"/>
              <a:ext cx="2362320" cy="1447560"/>
              <a:chOff x="0" y="189000"/>
              <a:chExt cx="2362320" cy="1447560"/>
            </a:xfrm>
          </p:grpSpPr>
          <p:sp>
            <p:nvSpPr>
              <p:cNvPr id="366" name="Rectangle 5"/>
              <p:cNvSpPr/>
              <p:nvPr/>
            </p:nvSpPr>
            <p:spPr>
              <a:xfrm>
                <a:off x="0" y="977760"/>
                <a:ext cx="2362320" cy="65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6"/>
              <p:cNvSpPr/>
              <p:nvPr/>
            </p:nvSpPr>
            <p:spPr>
              <a:xfrm>
                <a:off x="961920" y="189000"/>
                <a:ext cx="14004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7"/>
              <p:cNvSpPr/>
              <p:nvPr/>
            </p:nvSpPr>
            <p:spPr>
              <a:xfrm>
                <a:off x="87480" y="847800"/>
                <a:ext cx="699840" cy="52524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000000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"/>
              <p:cNvSpPr/>
              <p:nvPr/>
            </p:nvSpPr>
            <p:spPr>
              <a:xfrm>
                <a:off x="349200" y="1271520"/>
                <a:ext cx="176400" cy="2635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9"/>
              <p:cNvSpPr/>
              <p:nvPr/>
            </p:nvSpPr>
            <p:spPr>
              <a:xfrm>
                <a:off x="87480" y="189000"/>
                <a:ext cx="698400" cy="2635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0"/>
              <p:cNvSpPr/>
              <p:nvPr/>
            </p:nvSpPr>
            <p:spPr>
              <a:xfrm>
                <a:off x="349200" y="189000"/>
                <a:ext cx="176400" cy="1317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2" name="Picture 11" descr="pic028"/>
          <p:cNvPicPr/>
          <p:nvPr/>
        </p:nvPicPr>
        <p:blipFill>
          <a:blip r:embed="rId1"/>
          <a:stretch/>
        </p:blipFill>
        <p:spPr>
          <a:xfrm>
            <a:off x="6649920" y="5877000"/>
            <a:ext cx="2494080" cy="981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2"/>
          <p:cNvSpPr/>
          <p:nvPr/>
        </p:nvSpPr>
        <p:spPr>
          <a:xfrm>
            <a:off x="826920" y="33336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中考训练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971640" y="1844640"/>
            <a:ext cx="74898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00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化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求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x +2)(3x-2)-5x(x-1)-(2x-1)</a:t>
            </a:r>
            <a:r>
              <a:rPr b="1" lang="en-US" sz="2800" spc="-1" strike="noStrike" baseline="68000">
                <a:solidFill>
                  <a:srgbClr val="000000"/>
                </a:solidFill>
                <a:latin typeface="Arial"/>
              </a:rPr>
              <a:t>2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并填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(1)1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-25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=(                   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 (2)3     +2      =(                  )</a:t>
            </a:r>
            <a:br>
              <a:rPr sz="4000"/>
            </a:b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92dd3"/>
                </a:solidFill>
                <a:latin typeface="Arial"/>
              </a:rPr>
              <a:t> (3)3       -4         =(                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2195640" y="1911240"/>
            <a:ext cx="6538680" cy="2173320"/>
            <a:chOff x="2195640" y="1911240"/>
            <a:chExt cx="6538680" cy="2173320"/>
          </a:xfrm>
        </p:grpSpPr>
        <mc:AlternateContent>
          <mc:Choice xmlns:a14="http://schemas.microsoft.com/office/drawing/2010/main" Requires="a14">
            <p:sp>
              <p:nvSpPr>
                <p:cNvPr id="134" name="Object 4"/>
                <p:cNvSpPr txBox="1"/>
                <p:nvPr/>
              </p:nvSpPr>
              <p:spPr>
                <a:xfrm>
                  <a:off x="2268360" y="1989000"/>
                  <a:ext cx="73188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Object 5"/>
                <p:cNvSpPr txBox="1"/>
                <p:nvPr/>
              </p:nvSpPr>
              <p:spPr>
                <a:xfrm>
                  <a:off x="7453440" y="1989000"/>
                  <a:ext cx="80964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Object 6"/>
                <p:cNvSpPr txBox="1"/>
                <p:nvPr/>
              </p:nvSpPr>
              <p:spPr>
                <a:xfrm>
                  <a:off x="3641760" y="1911240"/>
                  <a:ext cx="80172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7"/>
                <p:cNvSpPr txBox="1"/>
                <p:nvPr/>
              </p:nvSpPr>
              <p:spPr>
                <a:xfrm>
                  <a:off x="7667640" y="3213000"/>
                  <a:ext cx="106668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8"/>
                <p:cNvSpPr txBox="1"/>
                <p:nvPr/>
              </p:nvSpPr>
              <p:spPr>
                <a:xfrm>
                  <a:off x="3635280" y="3284640"/>
                  <a:ext cx="100800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9"/>
                <p:cNvSpPr txBox="1"/>
                <p:nvPr/>
              </p:nvSpPr>
              <p:spPr>
                <a:xfrm>
                  <a:off x="2195640" y="3357720"/>
                  <a:ext cx="100800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Text Box 10"/>
          <p:cNvSpPr/>
          <p:nvPr/>
        </p:nvSpPr>
        <p:spPr>
          <a:xfrm>
            <a:off x="4716360" y="907920"/>
            <a:ext cx="27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2dd3"/>
                </a:solidFill>
                <a:latin typeface="Times New Roman"/>
                <a:ea typeface="Gulim"/>
              </a:rPr>
              <a:t>100-2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580720" y="213372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2dd3"/>
                </a:solidFill>
                <a:latin typeface="Times New Roman"/>
                <a:ea typeface="Gulim"/>
              </a:rPr>
              <a:t>3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869800" y="3284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2dd3"/>
                </a:solidFill>
                <a:latin typeface="Times New Roman"/>
                <a:ea typeface="Gulim"/>
              </a:rPr>
              <a:t>3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42920" y="46594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上述运算有什么特点，你能从中得出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54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所含字母          ，并且相同　　　的        也          的项叫做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981000"/>
            <a:ext cx="10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284720" y="1052640"/>
            <a:ext cx="10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724360" y="1052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16436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84360" y="1557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332000" y="2637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几个常数项也是同类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900000" y="422100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所含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字母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相同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字母的指数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也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0" y="3429000"/>
            <a:ext cx="91440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（一） 同类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50920" y="5445000"/>
            <a:ext cx="8076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>
            <a:hlinkClick r:id="" action="ppaction://hlinkshowjump?jump=nextslide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724360" y="50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0" y="1125360"/>
            <a:ext cx="1512720" cy="576360"/>
          </a:xfrm>
          <a:prstGeom prst="cloudCallout">
            <a:avLst>
              <a:gd name="adj1" fmla="val 71615"/>
              <a:gd name="adj2" fmla="val 271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思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00000" y="1844640"/>
            <a:ext cx="73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各组中的两项是否是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-5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(  )  (2)3xy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x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 -5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  (4)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(  )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357440" y="270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165800" y="227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</a:rPr>
              <a:t>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164360" y="270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291200" y="227664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</a:rPr>
              <a:t>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92400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</a:rPr>
              <a:t>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xs03gif390"/>
          <p:cNvPicPr/>
          <p:nvPr/>
        </p:nvPicPr>
        <p:blipFill>
          <a:blip r:embed="rId1"/>
          <a:stretch/>
        </p:blipFill>
        <p:spPr>
          <a:xfrm>
            <a:off x="6588000" y="333360"/>
            <a:ext cx="158436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8"/>
          <p:cNvGrpSpPr/>
          <p:nvPr/>
        </p:nvGrpSpPr>
        <p:grpSpPr>
          <a:xfrm>
            <a:off x="395280" y="0"/>
            <a:ext cx="4392720" cy="765000"/>
            <a:chOff x="395280" y="0"/>
            <a:chExt cx="4392720" cy="765000"/>
          </a:xfrm>
        </p:grpSpPr>
        <p:sp>
          <p:nvSpPr>
            <p:cNvPr id="168" name="Rectangle 19"/>
            <p:cNvSpPr/>
            <p:nvPr/>
          </p:nvSpPr>
          <p:spPr>
            <a:xfrm>
              <a:off x="395280" y="52560"/>
              <a:ext cx="289728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知识的升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2825640" y="42840"/>
              <a:ext cx="35568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21" descr="678"/>
            <p:cNvPicPr/>
            <p:nvPr/>
          </p:nvPicPr>
          <p:blipFill>
            <a:blip r:embed="rId2"/>
            <a:stretch/>
          </p:blipFill>
          <p:spPr>
            <a:xfrm>
              <a:off x="3292560" y="0"/>
              <a:ext cx="149544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2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95280" y="169920"/>
              <a:ext cx="65412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23"/>
          <p:cNvSpPr/>
          <p:nvPr/>
        </p:nvSpPr>
        <p:spPr>
          <a:xfrm>
            <a:off x="395280" y="486900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同类项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相同字母的指数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关，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4284720" y="486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187280" y="544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771640" y="5373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5292720" y="5300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字母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78" name="Picture 3" descr="LU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79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4"/>
            <p:cNvSpPr/>
            <p:nvPr/>
          </p:nvSpPr>
          <p:spPr>
            <a:xfrm>
              <a:off x="1143000" y="228600"/>
              <a:ext cx="8763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5"/>
                <p:cNvSpPr txBox="1"/>
                <p:nvPr/>
              </p:nvSpPr>
              <p:spPr>
                <a:xfrm>
                  <a:off x="6580080" y="5267160"/>
                  <a:ext cx="322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81" name="AutoShape 6"/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>
            <a:hlinkClick r:id="" action="ppaction://hlinkshowjump?jump=lastslide"/>
          </p:cNvPr>
          <p:cNvSpPr/>
          <p:nvPr/>
        </p:nvSpPr>
        <p:spPr>
          <a:xfrm>
            <a:off x="651672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49620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116000" y="1268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如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2x+7+3x-8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2     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出多项式中的同类项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835280" y="1773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4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8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2x+3x+7-2      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交换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835280" y="2205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(4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8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+(2x+3x)+(7-2)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835280" y="270828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(4-8)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(2+3)x+(7-2)   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配律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728360" y="31417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-4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5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944960" y="37162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把多项式中的同类项合并成一项，叫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合并同类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905360" y="458136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合并同类项后，所得项的系数、字母以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字母的指数与合并前各同类项的系数、字母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字母的指数有什么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1332000" y="4365720"/>
            <a:ext cx="1512720" cy="576000"/>
          </a:xfrm>
          <a:prstGeom prst="cloudCallout">
            <a:avLst>
              <a:gd name="adj1" fmla="val 22296"/>
              <a:gd name="adj2" fmla="val 96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探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9" descr="应用"/>
          <p:cNvPicPr/>
          <p:nvPr/>
        </p:nvPicPr>
        <p:blipFill>
          <a:blip r:embed="rId2"/>
          <a:stretch/>
        </p:blipFill>
        <p:spPr>
          <a:xfrm>
            <a:off x="2484360" y="333360"/>
            <a:ext cx="3816360" cy="8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196" name="Picture 3" descr="LU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79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4"/>
            <p:cNvSpPr/>
            <p:nvPr/>
          </p:nvSpPr>
          <p:spPr>
            <a:xfrm>
              <a:off x="1143000" y="228600"/>
              <a:ext cx="8763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6580080" y="5267160"/>
                  <a:ext cx="3222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99" name="AutoShape 6"/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49620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973880" y="692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合并同类项法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2247840" y="1274760"/>
            <a:ext cx="54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971640" y="1197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合并同类项后，所得项的系数是合并前各同类项的系数的和，且字母部分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1572480" y="2276640"/>
            <a:ext cx="6827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注意：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两个同类项的系数互为相反数，则两项的和等于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3a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3a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(-3+3)a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0×a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项式中只有同类项才能合并，不是同类项不能合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5" descr="j0195384"/>
          <p:cNvPicPr/>
          <p:nvPr/>
        </p:nvPicPr>
        <p:blipFill>
          <a:blip r:embed="rId2"/>
          <a:stretch/>
        </p:blipFill>
        <p:spPr>
          <a:xfrm>
            <a:off x="6983280" y="4581360"/>
            <a:ext cx="2160720" cy="18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627280" y="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合并下列各式的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399840" y="4076640"/>
            <a:ext cx="53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+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+3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1700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582720" y="4653000"/>
            <a:ext cx="46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-3+2)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+(3-2)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048200" y="401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3857400" y="5229360"/>
            <a:ext cx="21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+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80000" y="1844640"/>
            <a:ext cx="51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ab-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-76680" y="2708280"/>
            <a:ext cx="56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+(3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+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-110880" y="3284640"/>
            <a:ext cx="48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(4-4)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(3-4)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11240" y="3933720"/>
            <a:ext cx="20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-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6" descr="4"/>
          <p:cNvPicPr/>
          <p:nvPr/>
        </p:nvPicPr>
        <p:blipFill>
          <a:blip r:embed="rId1"/>
          <a:stretch/>
        </p:blipFill>
        <p:spPr>
          <a:xfrm>
            <a:off x="0" y="0"/>
            <a:ext cx="2666880" cy="97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7"/>
          <p:cNvSpPr/>
          <p:nvPr/>
        </p:nvSpPr>
        <p:spPr>
          <a:xfrm>
            <a:off x="2627280" y="1052640"/>
            <a:ext cx="6051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4497840" y="1125360"/>
            <a:ext cx="330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2)-3xy+2xy+3xy-2x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1040760" y="1052640"/>
            <a:ext cx="3150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1)4a+3b+2ab-4a-4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3276720" y="40766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250920" y="836640"/>
            <a:ext cx="8640720" cy="4511520"/>
            <a:chOff x="250920" y="836640"/>
            <a:chExt cx="8640720" cy="4511520"/>
          </a:xfrm>
        </p:grpSpPr>
        <p:grpSp>
          <p:nvGrpSpPr>
            <p:cNvPr id="225" name="Group 8"/>
            <p:cNvGrpSpPr/>
            <p:nvPr/>
          </p:nvGrpSpPr>
          <p:grpSpPr>
            <a:xfrm>
              <a:off x="250920" y="836640"/>
              <a:ext cx="8640720" cy="4511520"/>
              <a:chOff x="250920" y="836640"/>
              <a:chExt cx="8640720" cy="4511520"/>
            </a:xfrm>
          </p:grpSpPr>
          <p:sp>
            <p:nvSpPr>
              <p:cNvPr id="226" name="Text Box 9"/>
              <p:cNvSpPr/>
              <p:nvPr/>
            </p:nvSpPr>
            <p:spPr>
              <a:xfrm>
                <a:off x="509760" y="1413000"/>
                <a:ext cx="83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下列各题计算的结果对不对？如果不对，指出错在哪里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7" name="Object 10"/>
                  <p:cNvSpPr txBox="1"/>
                  <p:nvPr/>
                </p:nvSpPr>
                <p:spPr>
                  <a:xfrm>
                    <a:off x="1278000" y="2421000"/>
                    <a:ext cx="5141880" cy="292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  <m:e>
                            <m:m>
                              <m:mr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8" name="Text Box 11"/>
              <p:cNvSpPr/>
              <p:nvPr/>
            </p:nvSpPr>
            <p:spPr>
              <a:xfrm>
                <a:off x="250920" y="83664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ff"/>
                    </a:solidFill>
                    <a:latin typeface="Arial"/>
                  </a:rPr>
                  <a:t>瞧一瞧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2"/>
            <p:cNvSpPr/>
            <p:nvPr/>
          </p:nvSpPr>
          <p:spPr>
            <a:xfrm>
              <a:off x="5146560" y="24940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5146560" y="32608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4"/>
            <p:cNvSpPr/>
            <p:nvPr/>
          </p:nvSpPr>
          <p:spPr>
            <a:xfrm>
              <a:off x="5146560" y="39276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5"/>
            <p:cNvSpPr/>
            <p:nvPr/>
          </p:nvSpPr>
          <p:spPr>
            <a:xfrm>
              <a:off x="6659640" y="47721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6"/>
          <p:cNvSpPr/>
          <p:nvPr/>
        </p:nvSpPr>
        <p:spPr>
          <a:xfrm>
            <a:off x="5292720" y="249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364000" y="3284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364000" y="39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687708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5508720" y="18900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99ff99"/>
                </a:solidFill>
                <a:latin typeface="Arial"/>
                <a:ea typeface="隶书"/>
              </a:rPr>
              <a:t>知识的升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42:16Z</dcterms:created>
  <dc:creator>lz</dc:creator>
  <dc:description/>
  <dc:language>en-US</dc:language>
  <cp:lastModifiedBy>微软用户</cp:lastModifiedBy>
  <dcterms:modified xsi:type="dcterms:W3CDTF">2014-06-30T01:09:14Z</dcterms:modified>
  <cp:revision>32</cp:revision>
  <dc:subject/>
  <dc:title>幻灯片 1</dc:title>
</cp:coreProperties>
</file>